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284-D575-4BF0-A82F-B0CD1DED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3A5-1E22-4DC0-96DA-DE2CD919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885-48B7-4BBA-ADC4-B3746D80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C7C-4F35-42C8-A007-FCD53349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1BA-07B4-4C5A-92E0-F5444E1D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4FB-48F3-434C-AA11-82FAD7AD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4FB-615B-4F32-B0C3-8B8257D2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22C-11FF-468F-AFA5-435103C7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DCA-6AA1-4F00-B04A-28B0906A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D5D-15BF-4FB1-8E6B-0463642F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B07-581C-44E2-8E2E-F209BB79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584-FCF0-4E80-8D3F-D973D72C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0DA1-EA90-4C15-97EF-C2AD36055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380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apyrus"/>
              </a:rPr>
              <a:t>Beowul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manuscript"/>
          <p:cNvPicPr/>
          <p:nvPr/>
        </p:nvPicPr>
        <p:blipFill>
          <a:blip r:embed="rId1"/>
          <a:stretch/>
        </p:blipFill>
        <p:spPr>
          <a:xfrm>
            <a:off x="5257800" y="1676520"/>
            <a:ext cx="3429000" cy="464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505320" cy="419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457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Setting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36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 time and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Papyrus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5720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838080" y="167652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as written in English, it is set in what is now Sweden, where a tribe called the Geats li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62120" y="35053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ory may take place as early as 400 or 500 A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Setting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36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 time and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beomap"/>
          <p:cNvPicPr/>
          <p:nvPr/>
        </p:nvPicPr>
        <p:blipFill>
          <a:blip r:embed="rId1"/>
          <a:stretch/>
        </p:blipFill>
        <p:spPr>
          <a:xfrm>
            <a:off x="4800600" y="1447920"/>
            <a:ext cx="377352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europe3"/>
          <p:cNvPicPr/>
          <p:nvPr/>
        </p:nvPicPr>
        <p:blipFill>
          <a:blip r:embed="rId2"/>
          <a:stretch/>
        </p:blipFill>
        <p:spPr>
          <a:xfrm>
            <a:off x="228600" y="1447920"/>
            <a:ext cx="432900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2952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rop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724280" y="6019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ert: Time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How we date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Important 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838080" y="1905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21 A.D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death of Hygelac, who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entioned in the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38080" y="2971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80 A.D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appearance of alliterative 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38080" y="36576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35 A.D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the Danish started raiding oth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as; after this, few poets woul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sider them her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04920" y="5486400"/>
            <a:ext cx="8610480" cy="10688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: This version was likely composed between 680 and 835, though it may be set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lliterative 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22860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etition of initial sounds of words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occurs in every l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43000" y="3429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Generally, four feet/beats per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143000" y="40384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A caesura, or pause, between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ats two and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5181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No rh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1905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literative verse – an example from Beowul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762120" y="2971800"/>
            <a:ext cx="7467480" cy="206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ft Scyld Scefin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ceapena praetu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negum maegpu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eodo-setla oftea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gsode Eorle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yddan aerest we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09480" y="21337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re was Shield Sheafson, scourge of many trib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wrecker of mead-benches, rampaging among fo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terror of the hall-troops had come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57200" y="1676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Ken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914400" y="2362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Compound metaphor (usually two wor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914400" y="3124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Most were probably used over and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8" descr="beocomicboat"/>
          <p:cNvPicPr/>
          <p:nvPr/>
        </p:nvPicPr>
        <p:blipFill>
          <a:blip r:embed="rId1"/>
          <a:stretch/>
        </p:blipFill>
        <p:spPr>
          <a:xfrm>
            <a:off x="990720" y="3733920"/>
            <a:ext cx="3352680" cy="2904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4648320" y="4038480"/>
            <a:ext cx="449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nstance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rona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terally means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le-road,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ut can be translated as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a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0492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kennings fro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57200" y="21337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nh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ne-house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33520" y="35053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57200" y="2743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oldwine gume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ld-friend of men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generous pr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57200" y="47242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57200" y="38098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aga bryt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-giver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57200" y="4419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adoleo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ashing ligh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3520" y="17524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Li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219320" y="2362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negative expression; usually an under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219320" y="36576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447920" y="426708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Hildeburh had no cause to praise the J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523880" y="49528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1447920" y="502920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In this example, Hildeburh</a:t>
            </a:r>
            <a:r>
              <a:rPr b="1" lang="ja-JP" sz="2800" spc="-1" strike="noStrike">
                <a:solidFill>
                  <a:srgbClr val="000000"/>
                </a:solidFill>
                <a:latin typeface="Calligraph421 BT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s brother has just been killed by the Jutes.  This is a poetic way of telling us she hated the Jutes absolut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962520" y="1676520"/>
            <a:ext cx="464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0988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c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809880" y="2590920"/>
            <a:ext cx="51055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ard or story-te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cop was responsible for praising deeds of past heroes, for recording history, and for providing enter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bayeux1"/>
          <p:cNvPicPr/>
          <p:nvPr/>
        </p:nvPicPr>
        <p:blipFill>
          <a:blip r:embed="rId1"/>
          <a:stretch/>
        </p:blipFill>
        <p:spPr>
          <a:xfrm>
            <a:off x="228600" y="182880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Why Study </a:t>
            </a:r>
            <a:r>
              <a:rPr b="1" i="1" lang="en-US" sz="5400" spc="-1" strike="noStrike">
                <a:solidFill>
                  <a:srgbClr val="000000"/>
                </a:solidFill>
                <a:latin typeface="Papyrus"/>
              </a:rPr>
              <a:t>Beowulf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09480" y="14479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oldest poem in the English language, so everything written since Beowulf stems from it in so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09480" y="3429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The story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ncompasses common themes that we still see in English literature tod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85800" y="5334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is simply goo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380988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mi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809880" y="25909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terally, this means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cor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rade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809880" y="3809880"/>
            <a:ext cx="510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term identifies the concept of warriors and lords mutually pledging their loyalty to one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beowarriors"/>
          <p:cNvPicPr/>
          <p:nvPr/>
        </p:nvPicPr>
        <p:blipFill>
          <a:blip r:embed="rId1"/>
          <a:stretch/>
        </p:blipFill>
        <p:spPr>
          <a:xfrm>
            <a:off x="228600" y="1676520"/>
            <a:ext cx="332748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380988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038480" y="2514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ar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733920" y="36576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d-h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038480" y="44197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rge hall where the lord and his warriors slept, ate, held ceremoni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8" descr="bayeux2"/>
          <p:cNvPicPr/>
          <p:nvPr/>
        </p:nvPicPr>
        <p:blipFill>
          <a:blip r:embed="rId1"/>
          <a:stretch/>
        </p:blipFill>
        <p:spPr>
          <a:xfrm>
            <a:off x="228600" y="190512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80988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y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038480" y="2514600"/>
            <a:ext cx="480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e.  This idea crops up a lot in the poem, while at the same time there are Christian references to God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beocmic3"/>
          <p:cNvPicPr/>
          <p:nvPr/>
        </p:nvPicPr>
        <p:blipFill>
          <a:blip r:embed="rId1"/>
          <a:stretch/>
        </p:blipFill>
        <p:spPr>
          <a:xfrm>
            <a:off x="304920" y="1295280"/>
            <a:ext cx="3413160" cy="5311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80988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038480" y="2514600"/>
            <a:ext cx="5105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is an epic po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means it has a larger-than life hero and the conflict is of universal importance.  There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a certain serious that accompanies most ep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death02"/>
          <p:cNvPicPr/>
          <p:nvPr/>
        </p:nvPicPr>
        <p:blipFill>
          <a:blip r:embed="rId1"/>
          <a:stretch/>
        </p:blipFill>
        <p:spPr>
          <a:xfrm>
            <a:off x="228600" y="25909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3809880" y="1600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l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038480" y="22860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elegy is a poem that is sad or mournful.  The adjective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legia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809880" y="388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038480" y="4572000"/>
            <a:ext cx="510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homily is a written sermon or section of the poem that gives direct advice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beocomic2"/>
          <p:cNvPicPr/>
          <p:nvPr/>
        </p:nvPicPr>
        <p:blipFill>
          <a:blip r:embed="rId1"/>
          <a:stretch/>
        </p:blipFill>
        <p:spPr>
          <a:xfrm>
            <a:off x="304920" y="1600200"/>
            <a:ext cx="313344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Themes and Important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5720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vs. E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5720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gion: Christian and Pagan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5720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mportance of wealth and tr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yalty and alleg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200" y="2971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mportance of the sea and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57200" y="3581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anctity of the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45720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57200" y="541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oism and heroic d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" descr=""/>
          <p:cNvPicPr/>
          <p:nvPr/>
        </p:nvPicPr>
        <p:blipFill>
          <a:blip r:embed="rId9"/>
          <a:stretch/>
        </p:blipFill>
        <p:spPr>
          <a:xfrm>
            <a:off x="6019920" y="4572000"/>
            <a:ext cx="2476440" cy="1409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Why Study </a:t>
            </a:r>
            <a:r>
              <a:rPr b="1" i="1" lang="en-US" sz="5400" spc="-1" strike="noStrike">
                <a:solidFill>
                  <a:srgbClr val="000000"/>
                </a:solidFill>
                <a:latin typeface="Papyrus"/>
              </a:rPr>
              <a:t>Beowulf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962520" y="1600200"/>
            <a:ext cx="4876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In some ways, it doesn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matter what you read, but how you read it, so…sinc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me first, you might as well start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057400" y="529596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Studying Old English improves your understanding of modern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886200" y="4343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I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a great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1676520"/>
            <a:ext cx="294624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533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54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 Prove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57200" y="19051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don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19320" y="28195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wrot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057400" y="3581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exactly it wa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276720" y="4572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, exactly, is based on historical 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5057640" y="1523880"/>
            <a:ext cx="4086360" cy="2121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2120" y="15228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54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 Prove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352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67652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owulf is the oldest surviving English poem.  I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written in Old English (or Anglo-Saxon), which is the basis for the language we speak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4920" y="37339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of the characters in the poem actually exi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495288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only copy of the manuscript was written sometime around the 1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 A.D. (1000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), howev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7"/>
          <p:cNvSpPr/>
          <p:nvPr/>
        </p:nvSpPr>
        <p:spPr>
          <a:xfrm>
            <a:off x="304920" y="4572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ctual poem probably dates from the 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 (700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) or so, a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04920" y="1905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ory may be set even earlier, around 500 A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80880" y="342900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a lot of Christian references in the poem, but the characters and setting are Pagan…this means a monk probably translate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6400800" y="5435640"/>
            <a:ext cx="2451240" cy="139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762120" y="533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54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 Prove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1905120" y="16002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why wasn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 it written down in the first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29"/>
          <p:cNvSpPr/>
          <p:nvPr/>
        </p:nvSpPr>
        <p:spPr>
          <a:xfrm>
            <a:off x="304920" y="31240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story was probably passed down orally for centuries before it was first written dow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31"/>
          <p:cNvSpPr/>
          <p:nvPr/>
        </p:nvSpPr>
        <p:spPr>
          <a:xfrm>
            <a:off x="0" y="44197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asn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until after the Norman Invasion (1066) that writing stories down became common in this part of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2070000" cy="1600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62120" y="533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54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 Prove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447920" y="152388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what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 happened to the manuscript since the 1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entu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62520" y="26668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tually, it ended up in the library of this gu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otton"/>
          <p:cNvPicPr/>
          <p:nvPr/>
        </p:nvPicPr>
        <p:blipFill>
          <a:blip r:embed="rId1"/>
          <a:stretch/>
        </p:blipFill>
        <p:spPr>
          <a:xfrm>
            <a:off x="304920" y="2590920"/>
            <a:ext cx="3328920" cy="4016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886200" y="54100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ert Cotton (1571-163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Bent-Up Arrow 10"/>
          <p:cNvSpPr/>
          <p:nvPr/>
        </p:nvSpPr>
        <p:spPr>
          <a:xfrm flipV="1" rot="5400000">
            <a:off x="4914720" y="3542040"/>
            <a:ext cx="1219320" cy="1905120"/>
          </a:xfrm>
          <a:custGeom>
            <a:avLst/>
            <a:gdLst/>
            <a:ahLst/>
            <a:rect l="l" t="t" r="r" b="b"/>
            <a:pathLst>
              <a:path w="1219200" h="1905000">
                <a:moveTo>
                  <a:pt x="0" y="1645920"/>
                </a:moveTo>
                <a:lnTo>
                  <a:pt x="701040" y="1645920"/>
                </a:lnTo>
                <a:lnTo>
                  <a:pt x="701040" y="320040"/>
                </a:lnTo>
                <a:lnTo>
                  <a:pt x="441960" y="320040"/>
                </a:lnTo>
                <a:lnTo>
                  <a:pt x="830580" y="0"/>
                </a:lnTo>
                <a:lnTo>
                  <a:pt x="1219200" y="320040"/>
                </a:lnTo>
                <a:lnTo>
                  <a:pt x="960120" y="320040"/>
                </a:lnTo>
                <a:lnTo>
                  <a:pt x="960120" y="1905000"/>
                </a:lnTo>
                <a:lnTo>
                  <a:pt x="0" y="1905000"/>
                </a:lnTo>
                <a:lnTo>
                  <a:pt x="0" y="164592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62120" y="533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54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 Prove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14400" y="18288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fortunately, Cotton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library burned in 1731.  Many manuscripts were entirely destroyed.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as partially dama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990720" y="3733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uscript is now preserved and carefully cared for in the British Muse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23:11:22Z</dcterms:created>
  <dc:creator>Gilmore</dc:creator>
  <dc:description/>
  <dc:language>en-US</dc:language>
  <cp:lastModifiedBy>Sharon Spada</cp:lastModifiedBy>
  <dcterms:modified xsi:type="dcterms:W3CDTF">2015-09-03T14:31:50Z</dcterms:modified>
  <cp:revision>71</cp:revision>
  <dc:subject/>
  <dc:title>PowerPoint Presentation</dc:title>
</cp:coreProperties>
</file>